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bomb.wav" ContentType="audio/x-wav"/>
  <Override PartName="/ppt/media/image1.png" ContentType="image/png"/>
  <Override PartName="/ppt/media/image2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9531-2B2C-4A6F-AD92-B50BC042A1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8BFA-151A-4110-A656-BD48404472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7A37-13EF-4795-98D9-B7784046A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57AE-B0EF-40A4-8199-4B2C0B2EF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30BC-4FD4-481C-A56F-8CE66B962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DC08-67AC-49D0-B86D-9E90CFE95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A7A7-2298-4C30-B291-9FCA8E318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2EFE-F04C-4891-B455-8C0C409373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EF68-6879-4083-BB78-CBF96DA5D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DD23-F365-4231-8BD2-E153A2EEF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3624-0098-4471-AFD4-349FB49E65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7AD8-501F-40F0-AE47-A3CF40D8B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757D-257F-4EC7-9BB9-E6843377E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AFD7-02D8-4752-A27B-F975BEE75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4DA3-C342-4B4E-A5BF-79F4014FB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8045-9AD2-4811-A98C-02382EC32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26FF-40DD-4E04-97D1-00DBAE62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495B-0D35-4B97-97FC-ABA00F60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8CDE-A364-4E55-BEB9-C86A38F9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871E-32EB-467E-8085-FC4C3E12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9845-0C3A-422E-B984-F0FE2786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9625-9B79-4F30-875A-4E703EC7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2448-8783-428A-B865-65EFBC92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1E95-F41F-4BD1-825D-E4234FE7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7FE0-7988-41BF-BF8E-11931518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9010-C552-4E8F-82B6-4A63C4DB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E393-3600-4E79-9C51-F83B1733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A614-E575-40C9-82BD-05F5F7EB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6300-4794-4620-A28C-B5EA1CC59F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9A76-F8D7-442F-97F6-90F3F45E4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file:///tmp/home/.config/libreoffice/4/user/gallery/bomb.wav" TargetMode="External"/><Relationship Id="rId3" Type="http://schemas.microsoft.com/office/2007/relationships/media" Target="file:///tmp/home/.config/libreoffice/4/user/gallery/bomb.wav" TargetMode="External"/><Relationship Id="rId4" Type="http://schemas.openxmlformats.org/officeDocument/2006/relationships/image" Target="../media/image13.pn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838080"/>
            <a:ext cx="785196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endar Les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52480" y="32004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arts of the Calend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600200" y="44956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d by:  Ramona Lewis-Dai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you locate the different parts of a calend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ugu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1066680" y="2057400"/>
            <a:ext cx="7315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43000" y="990720"/>
          <a:ext cx="7772400" cy="4954320"/>
        </p:xfrm>
        <a:graphic>
          <a:graphicData uri="http://schemas.openxmlformats.org/drawingml/2006/table">
            <a:tbl>
              <a:tblPr/>
              <a:tblGrid>
                <a:gridCol w="981000"/>
                <a:gridCol w="1119240"/>
                <a:gridCol w="1190520"/>
                <a:gridCol w="1330560"/>
                <a:gridCol w="1050840"/>
                <a:gridCol w="957240"/>
                <a:gridCol w="1143000"/>
              </a:tblGrid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n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  <p:sp>
        <p:nvSpPr>
          <p:cNvPr id="99" name="TextBox 4"/>
          <p:cNvSpPr/>
          <p:nvPr/>
        </p:nvSpPr>
        <p:spPr>
          <a:xfrm>
            <a:off x="457200" y="3049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Arrow Connector 6"/>
          <p:cNvCxnSpPr/>
          <p:nvPr/>
        </p:nvCxnSpPr>
        <p:spPr>
          <a:xfrm>
            <a:off x="1294920" y="533520"/>
            <a:ext cx="25916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TextBox 7"/>
          <p:cNvSpPr/>
          <p:nvPr/>
        </p:nvSpPr>
        <p:spPr>
          <a:xfrm>
            <a:off x="0" y="990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9"/>
          <p:cNvCxnSpPr/>
          <p:nvPr/>
        </p:nvCxnSpPr>
        <p:spPr>
          <a:xfrm>
            <a:off x="609480" y="1143000"/>
            <a:ext cx="5342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3" name="TextBox 13"/>
          <p:cNvSpPr/>
          <p:nvPr/>
        </p:nvSpPr>
        <p:spPr>
          <a:xfrm>
            <a:off x="0" y="36576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ne full 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16"/>
          <p:cNvCxnSpPr/>
          <p:nvPr/>
        </p:nvCxnSpPr>
        <p:spPr>
          <a:xfrm>
            <a:off x="685800" y="396252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5" name="TextBox 17"/>
          <p:cNvSpPr/>
          <p:nvPr/>
        </p:nvSpPr>
        <p:spPr>
          <a:xfrm>
            <a:off x="7086600" y="5638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st day of the mon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Straight Arrow Connector 19"/>
          <p:cNvCxnSpPr>
            <a:stCxn id="105" idx="1"/>
          </p:cNvCxnSpPr>
          <p:nvPr/>
        </p:nvCxnSpPr>
        <p:spPr>
          <a:xfrm flipH="1" flipV="1">
            <a:off x="6095520" y="5790960"/>
            <a:ext cx="99144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25"/>
          <p:cNvCxnSpPr/>
          <p:nvPr/>
        </p:nvCxnSpPr>
        <p:spPr>
          <a:xfrm>
            <a:off x="685800" y="5791320"/>
            <a:ext cx="5342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TextBox 26"/>
          <p:cNvSpPr/>
          <p:nvPr/>
        </p:nvSpPr>
        <p:spPr>
          <a:xfrm>
            <a:off x="0" y="5562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7"/>
          <p:cNvSpPr/>
          <p:nvPr/>
        </p:nvSpPr>
        <p:spPr>
          <a:xfrm>
            <a:off x="3200400" y="16002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nth 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29"/>
          <p:cNvCxnSpPr/>
          <p:nvPr/>
        </p:nvCxnSpPr>
        <p:spPr>
          <a:xfrm flipV="1">
            <a:off x="3809520" y="1752480"/>
            <a:ext cx="38196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ding a Calendar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g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066680" y="2057400"/>
            <a:ext cx="7315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52480" y="914400"/>
          <a:ext cx="6019920" cy="3581280"/>
        </p:xfrm>
        <a:graphic>
          <a:graphicData uri="http://schemas.openxmlformats.org/drawingml/2006/table">
            <a:tbl>
              <a:tblPr/>
              <a:tblGrid>
                <a:gridCol w="758880"/>
                <a:gridCol w="868320"/>
                <a:gridCol w="922320"/>
                <a:gridCol w="1030320"/>
                <a:gridCol w="812880"/>
                <a:gridCol w="741240"/>
                <a:gridCol w="885960"/>
              </a:tblGrid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14" name="TextBox 18"/>
          <p:cNvSpPr/>
          <p:nvPr/>
        </p:nvSpPr>
        <p:spPr>
          <a:xfrm>
            <a:off x="1447920" y="4572000"/>
            <a:ext cx="487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days are in this month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which day does the month begin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Fridays are in this month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which day will the next month start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date of the second Satur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mon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ding a Calendar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g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1066680" y="2057400"/>
            <a:ext cx="7315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52480" y="914400"/>
          <a:ext cx="6019920" cy="3478320"/>
        </p:xfrm>
        <a:graphic>
          <a:graphicData uri="http://schemas.openxmlformats.org/drawingml/2006/table">
            <a:tbl>
              <a:tblPr/>
              <a:tblGrid>
                <a:gridCol w="758880"/>
                <a:gridCol w="868320"/>
                <a:gridCol w="922320"/>
                <a:gridCol w="1030320"/>
                <a:gridCol w="812880"/>
                <a:gridCol w="741240"/>
                <a:gridCol w="8859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18" name="TextBox 18"/>
          <p:cNvSpPr/>
          <p:nvPr/>
        </p:nvSpPr>
        <p:spPr>
          <a:xfrm>
            <a:off x="1447920" y="4572000"/>
            <a:ext cx="487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days are in this month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which day does the month begin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Fridays are in this month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which day will the next month start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date of the second Satur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mon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5791320" y="464832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ues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ri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ugust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’s missing from this calenda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85800" y="1143000"/>
          <a:ext cx="7772400" cy="5335560"/>
        </p:xfrm>
        <a:graphic>
          <a:graphicData uri="http://schemas.openxmlformats.org/drawingml/2006/table">
            <a:tbl>
              <a:tblPr/>
              <a:tblGrid>
                <a:gridCol w="981000"/>
                <a:gridCol w="1119240"/>
                <a:gridCol w="1190520"/>
                <a:gridCol w="1330560"/>
                <a:gridCol w="1058760"/>
                <a:gridCol w="949320"/>
                <a:gridCol w="11430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11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TextBox 3"/>
          <p:cNvSpPr/>
          <p:nvPr/>
        </p:nvSpPr>
        <p:spPr>
          <a:xfrm>
            <a:off x="2209680" y="762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calend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560" y="30477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calendar is a way to keep track of the days, weeks, and months in a ye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http://www.timeanddate.com/gfx/blank.gif"/>
          <p:cNvPicPr/>
          <p:nvPr/>
        </p:nvPicPr>
        <p:blipFill>
          <a:blip r:embed="rId1"/>
          <a:stretch/>
        </p:blipFill>
        <p:spPr>
          <a:xfrm>
            <a:off x="0" y="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www.timeanddate.com/gfx/blank.gif"/>
          <p:cNvPicPr/>
          <p:nvPr/>
        </p:nvPicPr>
        <p:blipFill>
          <a:blip r:embed="rId2"/>
          <a:stretch/>
        </p:blipFill>
        <p:spPr>
          <a:xfrm>
            <a:off x="0" y="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New"/>
          <p:cNvPicPr/>
          <p:nvPr/>
        </p:nvPicPr>
        <p:blipFill>
          <a:blip r:embed="rId3"/>
          <a:stretch/>
        </p:blipFill>
        <p:spPr>
          <a:xfrm>
            <a:off x="0" y="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1Q"/>
          <p:cNvPicPr/>
          <p:nvPr/>
        </p:nvPicPr>
        <p:blipFill>
          <a:blip r:embed="rId4"/>
          <a:stretch/>
        </p:blipFill>
        <p:spPr>
          <a:xfrm>
            <a:off x="0" y="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Full"/>
          <p:cNvPicPr/>
          <p:nvPr/>
        </p:nvPicPr>
        <p:blipFill>
          <a:blip r:embed="rId5"/>
          <a:stretch/>
        </p:blipFill>
        <p:spPr>
          <a:xfrm>
            <a:off x="0" y="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3Q"/>
          <p:cNvPicPr/>
          <p:nvPr/>
        </p:nvPicPr>
        <p:blipFill>
          <a:blip r:embed="rId6"/>
          <a:stretch/>
        </p:blipFill>
        <p:spPr>
          <a:xfrm>
            <a:off x="0" y="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C:\Users\pacman\AppData\Local\Microsoft\Windows\Temporary Internet Files\Content.IE5\S5WT93UT\MCj04322370000[1].wmf"/>
          <p:cNvPicPr/>
          <p:nvPr/>
        </p:nvPicPr>
        <p:blipFill>
          <a:blip r:embed="rId7"/>
          <a:stretch/>
        </p:blipFill>
        <p:spPr>
          <a:xfrm>
            <a:off x="3429000" y="2209680"/>
            <a:ext cx="2209680" cy="182736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f there were no calendars it would be extremely difficult for people to keep up with important event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C:\Users\pacman\AppData\Local\Microsoft\Windows\Temporary Internet Files\Content.IE5\53ODT1K1\MCj03519210000[1].wmf"/>
          <p:cNvPicPr/>
          <p:nvPr/>
        </p:nvPicPr>
        <p:blipFill>
          <a:blip r:embed="rId1"/>
          <a:stretch/>
        </p:blipFill>
        <p:spPr>
          <a:xfrm>
            <a:off x="4267080" y="4191120"/>
            <a:ext cx="251460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ch as…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57040" y="1599840"/>
            <a:ext cx="6095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Birthday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pacman\AppData\Local\Microsoft\Windows\Temporary Internet Files\Content.IE5\53ODT1K1\MCj04258120000[1].wmf"/>
          <p:cNvPicPr/>
          <p:nvPr/>
        </p:nvPicPr>
        <p:blipFill>
          <a:blip r:embed="rId1"/>
          <a:stretch/>
        </p:blipFill>
        <p:spPr>
          <a:xfrm>
            <a:off x="0" y="0"/>
            <a:ext cx="2666880" cy="271764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914400" y="40384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Anniversar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1066680" y="289548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Independence 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C:\Users\pacman\AppData\Local\Microsoft\Windows\Temporary Internet Files\Content.IE5\53ODT1K1\MCj03056050000[1].wmf"/>
          <p:cNvPicPr/>
          <p:nvPr/>
        </p:nvPicPr>
        <p:blipFill>
          <a:blip r:embed="rId2"/>
          <a:stretch/>
        </p:blipFill>
        <p:spPr>
          <a:xfrm>
            <a:off x="6477120" y="4343400"/>
            <a:ext cx="2406600" cy="20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7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77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hristma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pacman\AppData\Local\Microsoft\Windows\Temporary Internet Files\Content.IE5\ZE7E50QK\MCj04362990000[1].png"/>
          <p:cNvPicPr/>
          <p:nvPr/>
        </p:nvPicPr>
        <p:blipFill>
          <a:blip r:embed="rId1"/>
          <a:stretch/>
        </p:blipFill>
        <p:spPr>
          <a:xfrm>
            <a:off x="3657600" y="14479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838080" y="2971800"/>
            <a:ext cx="739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Thanksgiv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C:\Users\pacman\AppData\Local\Microsoft\Windows\Temporary Internet Files\Content.IE5\S5WT93UT\MCj03975760000[1].wmf"/>
          <p:cNvPicPr/>
          <p:nvPr/>
        </p:nvPicPr>
        <p:blipFill>
          <a:blip r:embed="rId2"/>
          <a:stretch/>
        </p:blipFill>
        <p:spPr>
          <a:xfrm>
            <a:off x="2057400" y="4267080"/>
            <a:ext cx="476424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457200" y="380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New Year’s 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Users\pacman\AppData\Local\Microsoft\Windows\Temporary Internet Files\Content.IE5\S5WT93UT\MCSO00573_0000[1].wmf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4813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533520" y="2514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1600200" y="190512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4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calenda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1752480"/>
          <a:ext cx="8001000" cy="4923000"/>
        </p:xfrm>
        <a:graphic>
          <a:graphicData uri="http://schemas.openxmlformats.org/drawingml/2006/table">
            <a:tbl>
              <a:tblPr/>
              <a:tblGrid>
                <a:gridCol w="1009800"/>
                <a:gridCol w="1152360"/>
                <a:gridCol w="1225440"/>
                <a:gridCol w="1370160"/>
                <a:gridCol w="1081080"/>
                <a:gridCol w="985680"/>
                <a:gridCol w="1176480"/>
              </a:tblGrid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n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92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  <p:sp>
        <p:nvSpPr>
          <p:cNvPr id="78" name="TextBox 3"/>
          <p:cNvSpPr/>
          <p:nvPr/>
        </p:nvSpPr>
        <p:spPr>
          <a:xfrm>
            <a:off x="3429000" y="12193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ly 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are the parts of a calenda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14800" y="228240"/>
            <a:ext cx="1905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Jul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1066680" y="2057400"/>
            <a:ext cx="7315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143000" y="990720"/>
          <a:ext cx="7772400" cy="4954320"/>
        </p:xfrm>
        <a:graphic>
          <a:graphicData uri="http://schemas.openxmlformats.org/drawingml/2006/table">
            <a:tbl>
              <a:tblPr/>
              <a:tblGrid>
                <a:gridCol w="981000"/>
                <a:gridCol w="1119240"/>
                <a:gridCol w="1176480"/>
                <a:gridCol w="1295280"/>
                <a:gridCol w="1100160"/>
                <a:gridCol w="957240"/>
                <a:gridCol w="1143000"/>
              </a:tblGrid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n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b3a2c7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3a2c7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3a2c7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3a2c7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3a2c7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3a2c7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3a2c7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cxnSp>
        <p:nvCxnSpPr>
          <p:cNvPr id="83" name="Straight Arrow Connector 6"/>
          <p:cNvCxnSpPr/>
          <p:nvPr/>
        </p:nvCxnSpPr>
        <p:spPr>
          <a:xfrm>
            <a:off x="1371240" y="685800"/>
            <a:ext cx="21344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Straight Arrow Connector 9"/>
          <p:cNvCxnSpPr/>
          <p:nvPr/>
        </p:nvCxnSpPr>
        <p:spPr>
          <a:xfrm>
            <a:off x="609480" y="1143000"/>
            <a:ext cx="5342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Straight Arrow Connector 19"/>
          <p:cNvCxnSpPr/>
          <p:nvPr/>
        </p:nvCxnSpPr>
        <p:spPr>
          <a:xfrm flipH="1" flipV="1">
            <a:off x="6095160" y="5790960"/>
            <a:ext cx="76284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Straight Arrow Connector 28"/>
          <p:cNvCxnSpPr/>
          <p:nvPr/>
        </p:nvCxnSpPr>
        <p:spPr>
          <a:xfrm>
            <a:off x="837720" y="2819160"/>
            <a:ext cx="38196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xtBox 29"/>
          <p:cNvSpPr/>
          <p:nvPr/>
        </p:nvSpPr>
        <p:spPr>
          <a:xfrm>
            <a:off x="3049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0"/>
          <p:cNvSpPr/>
          <p:nvPr/>
        </p:nvSpPr>
        <p:spPr>
          <a:xfrm>
            <a:off x="228600" y="380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1"/>
          <p:cNvSpPr/>
          <p:nvPr/>
        </p:nvSpPr>
        <p:spPr>
          <a:xfrm>
            <a:off x="0" y="990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Straight Arrow Connector 33"/>
          <p:cNvCxnSpPr/>
          <p:nvPr/>
        </p:nvCxnSpPr>
        <p:spPr>
          <a:xfrm>
            <a:off x="456840" y="4800600"/>
            <a:ext cx="6865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TextBox 35"/>
          <p:cNvSpPr/>
          <p:nvPr/>
        </p:nvSpPr>
        <p:spPr>
          <a:xfrm>
            <a:off x="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6"/>
          <p:cNvSpPr/>
          <p:nvPr/>
        </p:nvSpPr>
        <p:spPr>
          <a:xfrm>
            <a:off x="6858000" y="61722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st day of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39"/>
          <p:cNvCxnSpPr/>
          <p:nvPr/>
        </p:nvCxnSpPr>
        <p:spPr>
          <a:xfrm flipV="1">
            <a:off x="3657600" y="1752480"/>
            <a:ext cx="45792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4" name="TextBox 42"/>
          <p:cNvSpPr/>
          <p:nvPr/>
        </p:nvSpPr>
        <p:spPr>
          <a:xfrm>
            <a:off x="3352680" y="1600200"/>
            <a:ext cx="609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ay of mon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2T16:30:25Z</dcterms:created>
  <dc:creator>pacman</dc:creator>
  <dc:description/>
  <dc:language>en-US</dc:language>
  <cp:lastModifiedBy>Laura McDow</cp:lastModifiedBy>
  <dcterms:modified xsi:type="dcterms:W3CDTF">2010-09-09T13:35:10Z</dcterms:modified>
  <cp:revision>39</cp:revision>
  <dc:subject/>
  <dc:title>Calendar Lesson</dc:title>
</cp:coreProperties>
</file>